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72E-71B9-4D2C-9D3E-E532A9CF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F4A-E9FF-412F-B585-038C7B35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9DA-76A5-449D-96A5-B9F798F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2C5-FC87-419D-BFDC-09EB6B25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D1D-8A57-4A6C-B49F-336F47EF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D34-4D6E-40C0-8AB1-371E51B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833-F33C-4069-A511-3F137E2F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BC2-FCDB-4CDE-8645-722C378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09B-7230-404D-86B6-9735B8C6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2C9-5DF0-4D01-B2B2-F375E02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BEA-0D35-4269-BAF8-8B1DDE0A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725-D7C8-4DF8-9FC2-A765B9D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5EFF-5FC9-4C61-BE2F-59F07738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utah.html" TargetMode="External"/><Relationship Id="rId4" Type="http://schemas.openxmlformats.org/officeDocument/2006/relationships/hyperlink" Target="http://www.enchantedlearning.com/usa/statesbw/utah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utah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419112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4648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ff66"/>
                    </a:gs>
                    <a:gs pos="100000">
                      <a:srgbClr val="915cd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Utah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ff66"/>
                  </a:gs>
                  <a:gs pos="100000">
                    <a:srgbClr val="915cd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Capitol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Salt Lak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2,233,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Entered the Union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January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, 18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Number Entered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Motto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“Indust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Nickname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Beehiv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Flower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Sego L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Bird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The common American seag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Song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Utah, we love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Meaning behind name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Indian trib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00"/>
                </a:solidFill>
                <a:uFillTx/>
                <a:latin typeface="Bradley Hand ITC"/>
              </a:rPr>
              <a:t>Interesting Fact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Utah’s state gem is a Top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State dance ~ Square 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Largest City ~ Salt Lake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Utah is the 3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Berlin Sans FB Dem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 most popular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5cde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Utah: Map and State Flag"/>
          <p:cNvPicPr/>
          <p:nvPr/>
        </p:nvPicPr>
        <p:blipFill>
          <a:blip r:embed="rId1"/>
          <a:srcRect l="0" t="0" r="0" b="69202"/>
          <a:stretch/>
        </p:blipFill>
        <p:spPr>
          <a:xfrm>
            <a:off x="228600" y="4648320"/>
            <a:ext cx="2666880" cy="163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Utah: Map and State Flag"/>
          <p:cNvPicPr/>
          <p:nvPr/>
        </p:nvPicPr>
        <p:blipFill>
          <a:blip r:embed="rId2"/>
          <a:srcRect l="0" t="37218" r="0" b="0"/>
          <a:stretch/>
        </p:blipFill>
        <p:spPr>
          <a:xfrm>
            <a:off x="304920" y="1143000"/>
            <a:ext cx="249876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9720" y="3505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438280"/>
            <a:ext cx="3352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.S. Government for kids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Ut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02/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uta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32440" y="152280"/>
            <a:ext cx="2814840" cy="358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373392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t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02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uta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2860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Photo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All images Copyright © 1997 - 2000 WriteLine. All Rights Reserved. Utah capitol"/>
          <p:cNvPicPr/>
          <p:nvPr/>
        </p:nvPicPr>
        <p:blipFill>
          <a:blip r:embed="rId1"/>
          <a:stretch/>
        </p:blipFill>
        <p:spPr>
          <a:xfrm rot="348000">
            <a:off x="533520" y="30492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38680" y="838080"/>
            <a:ext cx="3200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t Lake 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T, 3/3/2011, http://www.postcardsfrom.com/t1/9811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ll images Copyright © 1997 - 2000 WriteLine. All Rights Reserved. Dead Horse Point"/>
          <p:cNvPicPr/>
          <p:nvPr/>
        </p:nvPicPr>
        <p:blipFill>
          <a:blip r:embed="rId2"/>
          <a:stretch/>
        </p:blipFill>
        <p:spPr>
          <a:xfrm rot="21279600">
            <a:off x="380880" y="3657240"/>
            <a:ext cx="4419720" cy="29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3809880"/>
            <a:ext cx="3200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ad Ho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int State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2011, http://www.postcardsfrom.com/t1/9811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Copyright © 1998 WriteLine. All Rights Reserved. Sego Lily"/>
          <p:cNvPicPr/>
          <p:nvPr/>
        </p:nvPicPr>
        <p:blipFill>
          <a:blip r:embed="rId2"/>
          <a:stretch/>
        </p:blipFill>
        <p:spPr>
          <a:xfrm rot="472800">
            <a:off x="457200" y="304920"/>
            <a:ext cx="2185920" cy="259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53352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State Stamp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go L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2011, http://www.postcardsfrom.com/stamp/stamp-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opyright © 1998 WriteLine. All Rights Reserved. Seagull"/>
          <p:cNvPicPr/>
          <p:nvPr/>
        </p:nvPicPr>
        <p:blipFill>
          <a:blip r:embed="rId3"/>
          <a:stretch/>
        </p:blipFill>
        <p:spPr>
          <a:xfrm rot="21159600">
            <a:off x="2590560" y="2666520"/>
            <a:ext cx="3581280" cy="297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3505320"/>
            <a:ext cx="19051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Sta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agull, 3/3/2011, http://www.postcardsfrom.com/stamp/stamp-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3:35Z</dcterms:created>
  <dc:creator>install</dc:creator>
  <dc:description/>
  <dc:language>en-US</dc:language>
  <cp:lastModifiedBy>install</cp:lastModifiedBy>
  <dcterms:modified xsi:type="dcterms:W3CDTF">2011-03-16T15:55:29Z</dcterms:modified>
  <cp:revision>10</cp:revision>
  <dc:subject/>
  <dc:title>Slide 1</dc:title>
</cp:coreProperties>
</file>